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365D-82C6-4097-896D-CF86F4EFE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8868-B936-4572-885A-8198BB768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9684-4EBA-4518-A358-BB988BB6F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C4D9-4D7F-45DB-A4AA-AA71EBF74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5375-4F93-48D7-96B7-2F72ED0BB4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ECA6-CB73-4A2A-AC5E-398B6C70AD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B793-84E5-42BB-8F62-C5877C7D97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6402-293A-451B-94D6-C9704C7442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0461-2EBB-4100-8C42-DB9F01BAC8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C77B-3504-42B0-B831-B3E42C4940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AC69-F90D-4277-9D0F-7D7EBAD036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EED4-4B0F-41B1-A1FF-62A4C0B10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001F-A149-458F-A06F-AE9F374122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996C-4A44-4711-89B5-9FB372A6CF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0AD9-CFBB-4732-8348-C36F82FDD2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9751-115B-46BB-8FF8-49CC7F5AEC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A024-F7E5-46AF-A610-72F9D5840E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79C-73FD-4C4E-B296-DB0383E225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A26-67C8-47C1-873E-D23D982D7E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4F8-9EF4-4EDD-A450-954AAF0A9C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9F1-584C-41E2-AA83-964C9C6231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292-C72C-4D9B-8CA4-CAACC3AF1F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298F-C480-468B-9612-26E211C1FC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60F-7A03-4039-AA3D-0A6772DBD2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223-D67E-44C5-B9B6-304DA71DE0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20A-405C-4BC7-9346-751D7D2714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424-8BAD-4269-8476-D7C4CB29F9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55A-F180-4B37-BE87-0013BAB8C1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C59-A9B6-4DCE-80A8-1813A1BB0B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734-5D4A-424E-8B8D-123843EC18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3659C-62CD-4B2E-BC12-BE87D80B50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877EA-912B-4802-9929-8029E77893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FBD07-50A2-4DAD-8924-072590C0F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614E-2A66-48E0-9F87-BD08B415FF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EF03A-9550-4125-B285-07547231D8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740B3-AE47-4E7F-8258-2BEAF89423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1956D-7DA2-495C-85AE-755B18E2C5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0EE40-F2F9-40CB-ACBA-27A89E0DC3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F1B84-B3CD-4FAE-AB36-BCE8CEA71C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4D276-CC36-4AC3-BFF7-3B08D1E193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E8A18-EF47-4A5A-A3BE-CCCDE6F1E9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31B0E-EC2E-4BE2-B0ED-0B8E3C3181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917C4-F498-40E8-B60C-20919D6407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9B89F-2C9F-4DCE-9F9F-1DFE7ED04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57B8-E17E-4EBF-A459-C6633E786F5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0706F-6691-4813-A680-0EC4B5BD40A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58AFF-62EA-4487-B4DA-CD77694FBB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42339-B6CA-4C03-9A5F-524D5B991E7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9A21D-7A5B-4341-AB06-4DF16CF8EB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81774-895F-4CDE-B806-9FE69D9723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D309E-86E5-440E-89B8-579802016E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F3567-3E17-466A-A2B9-CE2E357D85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A20FA-238C-4239-9F9A-9B1D372184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97DED-01CD-49CB-89BC-B840B44FB6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8DF86-F58F-4E44-B7CB-CCA981D9E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205B-E973-4354-B8A1-FD192F13CE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68331-8557-460A-B6E3-1F1FF111ED8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FFD7-358E-4919-978E-FA1EA17553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F702-B657-43F1-B635-213DA39C26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CB2A-6C3D-43CC-B3CA-CFA1413C8A7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EBA6-831C-4DAA-AD0D-7000BB2F378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9E53-ADE0-42B3-B3F1-1B45BA3511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E5B8-3D74-46A5-AE89-6B4C0821C9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7C67-97AB-4EB2-B444-E3E00F03C9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C3B9-D62D-4D78-9417-E752495282C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9D26-8B69-4BE6-817A-E01596325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3B60-E574-4265-8B38-F32A5BAFE98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8BE8-9565-4BBD-8085-7BCDB24B7C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FF22-32DE-4AC0-B1F1-E7CE10B11E5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9637-8D06-40FB-829A-16E6A64ECC7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D4281B-3D9C-400C-84C2-6275F18FBB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8286FA-A1FF-4511-B0D2-83E961CF28B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205745-F217-4D6A-A0D3-4E5EEB24CAB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93C02F-98BD-46A1-A8D0-FA9304A946E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F93EAB-CC88-48F0-91DE-D0E892FC0D5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0D923-6DFD-4B42-A1F0-E8C295D2C3D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47492B-BB8F-445A-8DEB-C4FD1BB86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3D9D-025F-4445-B841-73FA1A82BB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FA13F6-586D-4A90-A02F-015C7741CA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345A5F-9474-4253-939E-34F933879B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0FAD74-E5BE-4D8C-B18A-3870AC9A21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536730-D539-40BD-A10E-E12A102CAD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596509-E8CB-467C-BFE8-9C3C5EF36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1990-4DCB-49C5-B1D3-10C751D4F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F663-CE9C-4A02-ADBF-F45E7B212455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30B3-06A5-4C04-A476-DC56573B45CB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399D-2996-4D04-9715-B8D233CD5C52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4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F667-AB49-48C3-B900-35C074E858C1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A807-D90D-493F-BF8C-167EB7DCAAD3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6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9B44-488D-4096-8C7E-FDE8B5CF9775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5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175B-063F-4D5A-B02B-C14D5E55EA09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Arial Black"/>
              </a:rPr>
              <a:t>METODOLOGIAS ATIV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</a:rPr>
              <a:t>Acacia Zeneida Kuenz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</a:rPr>
              <a:t>Dra. em Educação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b4a76"/>
                </a:solidFill>
                <a:uFillTx/>
                <a:latin typeface="Lucida Sans Unicode"/>
              </a:rPr>
              <a:t>acaciak4@gmail.com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</a:rPr>
              <a:t>Concepção de Métod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ual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ular teoria e prá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ular parte e totalidad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disciplinar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iv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r e reter a aprendizagem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inar quando é necessário simula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</a:rPr>
              <a:t>Atende ao Projeto Pedagógico da Escola Judici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03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lack"/>
                <a:ea typeface="Arial Black"/>
              </a:rPr>
              <a:t>Modelo mental: plano de cur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1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Que problema da prática o curso pretende enfrenta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JUSTIFICA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ção  do problema da prática ou de desempenho existente ou que venha a existir, que justifica a oferta do curso; o texto deve ser objetivo, apontando o problema que se pretende resolver ou a prática que se pretende mudar com o cur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1060560" y="398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Que competências  desenvolv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 Bold"/>
              </a:rPr>
              <a:t>(objetivos específic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igir relatórios conclusiv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rar diversas alternativas para solucionar confli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r técnicas de construção de soluçõ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igir acord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Qual a metodologia mais adequa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ensino que serão utilizadas, priorizando métodos ativ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ão selecionadas a partir das competências que se pretende desenvolv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lic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is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igir decisõe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Problematiz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presentar situações práticas de trabalho, estimuladoras do trabalho intelectual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Apresentar a fundamentação teóric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d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onibilizando material variado para consult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ndo fontes: livros, si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88000"/>
          </a:bodyPr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Propor atividade que leve o aluno ao protagonism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ráticas que estimulem a criatividade na busca de soluções originais e diversificadas que permitam o exercício da capacidade de decidir a partir da identificação de consequências possíveis que envolvam as dimensões cognitiva, ética e polí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criação da solução tendo como ponto de partida e  ponto de chegada a ação jurisdicional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Sistematiz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ização e síntes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old"/>
              </a:rPr>
              <a:t>A escolha da estratég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mpetências quero desenvolv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m são meus alunos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nhecimentos prévios têm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a natureza do conteúd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tempo tenho disponíve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é o espaço físico/equipamentos disponíveis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experiência didática tenho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  <a:ea typeface="Arial Black"/>
              </a:rPr>
              <a:t>Sugestõ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Estudos de ca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os de situações ocorridas no mundo real, apresentadas a estudantes com a finalidade de ensinar, preparando-os para a prá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olvem uma decisão, um desafio, uma oportunidade, um problema ou uma questão que um profissional tem que resolver em uma organizaçã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 Bold"/>
              </a:rPr>
              <a:t>Estudos de cas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ituem </a:t>
            </a:r>
            <a:r>
              <a:rPr b="0" lang="en-US" sz="2400" spc="-1" strike="noStrike">
                <a:solidFill>
                  <a:srgbClr val="3366ff"/>
                </a:solidFill>
                <a:latin typeface="Arial Bold"/>
              </a:rPr>
              <a:t>u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todolog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Arial"/>
              </a:rPr>
              <a:t>Que competências queremos desenvolv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específica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competências relativas ao saber fazer; técnic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cognitivas complexas</a:t>
            </a: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operações mentais utilizadas para estabelecer relações com e entre os objetos, situações, fenômenos e pessoas  que deseja conhecer; saber pensar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comportamentais –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mbinam  comportamento, a cultura e a identidade,vontade,engajamento e motivação; desenvolvem-se nos espaços de interação e de trocas; querer faz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Estudos de ca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</a:rPr>
              <a:t>Redação das notas de Ensino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Apresent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Objetiv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Questões para estudo: perguntas a responder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Referências básic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afé Diálogo 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méto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fácil utilização para a criação de uma rede viva de diálogo colaborativo sobre perguntas relevantes a serviço de assuntos reais do dia- dia, sejam da vida ou do trabalho; permite a participação de públicos numeros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distribuem-se por mesas arrumadas como se fossem para um café, em número de 5 a 8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da espaço de tempo, os participantes mudam de mesa, permanecendo um único membro, o anfitrião, ou coordenador (20 minuto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cada mesa há uma pergunta ou tema de discussão diferente e instigante; a qualidade das perguntas é fundam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ada rodada, o coordenador apresenta aos  novos participantes o que foi discutido pelo grupo anterior, que será o ponto de partida para a nova rodada; findo o tempo, os participantes trocam de mesa novamente, sempre buscando uma mesa por onde não tenha passado e se possível, novos parceiros (o grupo não se desloca como um todo; devem ser buscadas novas combinaçõe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organizar papéis coloridos, lápis, canetinhas, flipchat, e estimular os participantes a rabiscar suas idéias; o coordenador sistematiza as idéias (notebook?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disponibilizar lanche, se possível nas mes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 comunicação dos resultados pode ser em grande grupo, ou feita pelos relator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o docente faz a síntese f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Mapas conceitua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pas conceituais são diagramas indicando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relações entre concei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u entre palavras que usamos para representar concei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são diagramas de significados, de relações significativas; de hierarquias conceituais, se for o cas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mapeamento conceitual é uma técnica muito flexível e pode ser usada em diversas situações, para diferentes finalidades: técnica didática, recurso de aprendizagem, meio de avaliaçã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maptool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Arial Bold"/>
                <a:ea typeface="Arial Bold"/>
              </a:rPr>
              <a:t>Painel integrado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1a. Etap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m-se  grupos com o mesmo número de participantes; numerar cada participante; cada grupo faz a discussão do tema proposto, que pode ser o mesmo ou dife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2a. Etap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m-se novos grupo com participantes de números iguais (todos os n 1 formam um grupo; todos os n 2 e assim sucessivamente); será escolhido um coordenador e um relator para cada grupo; cada participante apresentará o resultado da discussão feita pelo seu grupo na 1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ª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etapa e abre discussão com os demais; assim, todos participam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Síntese pelo doc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Arial Bold"/>
              </a:rPr>
              <a:t>Design thinking</a:t>
            </a:r>
            <a:br>
              <a:rPr sz="4100"/>
            </a:b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9000"/>
          </a:bodyPr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Processo crítico para criar novas soluçõ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mersão: conhecer o problema – entrevistas, dado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álise e síntese:delineamento do problema a ser enfrenta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deação: criação de soluçõ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totipação: testag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esenvovimento: implementaçã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5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Arial Bold"/>
              </a:rPr>
              <a:t>Sala de aula invertida</a:t>
            </a:r>
            <a:br>
              <a:rPr sz="4100"/>
            </a:b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etodologia na qual os alunos estudam os temas em casa, antecipadamente, e trazem as dúvidas para discutir em sala, com os colegas e profess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6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Lucida Sans Unicode"/>
              </a:rPr>
              <a:t>Aquário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etodologia de conversa para explorar temas complexos e urgen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são divididos em dois grupos concêntricos; só o interno fala; o externo observa;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Uma cadeira do círculo interno fica vaga, podendo ser ocupada a qualquer momento por um participante do grupo externo que tenha uma contribuição a d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7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b5395"/>
                </a:solidFill>
                <a:latin typeface="Arial Bold"/>
              </a:rPr>
              <a:t>comportamenta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– combinam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ubdimensões tais como o comportamento,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 cultura e a identidade, e também a ideia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e vontade, ou seja, do engajamento e da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tivação; desenvolvem-se nos espaços e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mentos de interação e de trocas,  nos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quais se formam as identidad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omas Durand)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5395"/>
                </a:solidFill>
                <a:latin typeface="Arial Bold"/>
                <a:ea typeface="Arial Bold"/>
              </a:rPr>
              <a:t>Como desenvolver?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Desafios para o doc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</a:rPr>
              <a:t>Motiv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aula sh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descer de tirolesa na sala de aula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a motivação resulta de uma necessidade,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que atende a uma finalida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- foco nas práticas crític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- metodologias ativas: teoria x prát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Desafios para o doc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</a:rPr>
              <a:t>Tirar o aluno da contemplação: levá-lo ao protagonis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não é ativismo, fazer por fazer (grupos sem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ntido, filmes sem discussão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criar situações significativas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tivadoras, para que o aluno, ao se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lacionar com o conhecimento, faça novas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ínteses, descubra, crie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               </a:t>
            </a:r>
            <a:r>
              <a:rPr b="0" lang="en-US" sz="2700" spc="-1" strike="noStrike">
                <a:solidFill>
                  <a:srgbClr val="227a8f"/>
                </a:solidFill>
                <a:latin typeface="ヒラギノ角ゴ ProN W6"/>
                <a:ea typeface="ヒラギノ角ゴ ProN W6"/>
              </a:rPr>
              <a:t>Metodologias ativ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</a:rPr>
              <a:t>Concepção de competência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acidade potencial para atuar em situações não previstas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 processos dinâmicos com base tecnologicamente sempre mais complex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artir do conhecimento da totalidade do processo de trabalho, incluindo sua relação com os processos sociais e econômicos mais amplo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</a:rPr>
              <a:t>Concepção de Aprendizagem</a:t>
            </a:r>
            <a:r>
              <a:rPr b="0" lang="en-US" sz="2400" spc="-1" strike="noStrike">
                <a:solidFill>
                  <a:srgbClr val="227a8f"/>
                </a:solidFill>
                <a:latin typeface="Arial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aluno aprende quando se relaciona com o conhecimento; protagonism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resultado de processos intencionais e sistematizados de construção de conhecimen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ão ocorre espontaneamente; precisa da mediação do professo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acia</dc:creator>
  <dc:description/>
  <cp:keywords/>
  <dc:language>en-US</dc:language>
  <cp:lastModifiedBy>Acacia Zeneida Kuenzer</cp:lastModifiedBy>
  <dcterms:modified xsi:type="dcterms:W3CDTF">2019-09-06T02:01:10Z</dcterms:modified>
  <cp:revision>5</cp:revision>
  <dc:subject/>
  <dc:title>EDUCAÇÃO PROFISSIONAL, DESENVOLVIMENTO E INCLUSÃO SOCIAL</dc:title>
</cp:coreProperties>
</file>