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B986-4E5C-4D6A-977C-883183A33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084C-EF5D-47C1-91CD-ABA31D8F4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9123-B012-4A1A-A941-BC0CDDCD0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7ECB-AE32-4577-9294-D1ED7336D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BE38-4BEF-4C4E-86D7-9953BB0C64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8A07-3807-4534-B0A9-3CFA1E1B0B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4FCB-F65E-46D8-9009-03A900CB70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22629-57F4-474E-8D8C-A55E8B7E38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7A85-2416-4EDF-9A2A-0DD604D956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E5ED-5130-4622-B635-27266B4FAE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F9A7-7B6A-4605-8E37-7650B30A4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F583-C62A-48EF-8DF5-628288470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ED1F-D953-4E4B-9420-F29C978532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796A-3DE6-4AFE-B4B3-E11F2B77E9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E65F-625E-4834-B51A-BF801EE221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A6A1-4FFF-4287-8C9C-9B864ED403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B986-366A-438B-8823-CB9D9F3C0F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C32-6D9E-41DF-9775-E3607CC570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B2D-18D7-4CDB-A422-C55F9A1949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8A7-5B53-43EB-B628-C7FAB3BFE3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06E-0AA5-4E3A-A267-345DB793FE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B2A-0CD2-425C-8D94-625FE294C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D09B-BE58-414D-8312-BB473E15CE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C88-D11D-4015-B464-5D3622713B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500-6B91-4C28-B5F9-64CFB3F1CF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855-548F-4789-B806-CF84089DCD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8CB-33EF-410F-8C34-0252983DDE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D87-AE70-4BD0-BACF-B4A04E3EA8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205-8566-42E5-B6AD-232D480F51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41D-AE5B-462E-BCA7-30E2C0B3FA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BF3B6-E243-4B5A-B914-AA7E19D4AA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5AC14-5E67-4587-9ADE-B6F20F5973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C3D43-84A2-489C-A105-45F662717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2F75-E952-4FDB-B704-58486A7DE4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2BE52-A304-48B9-975E-42044824F6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8D78F-52DC-4D3C-BFC9-2DDAB2D631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94D77-525C-49B7-9A22-48B9366060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27617-E40A-4437-8DB4-8E77943E30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51BB5-5EBC-425F-B8F3-AB00E979E3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57E33-2BE2-4094-A8D2-ABEFFA3138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82386-4305-49F3-BA12-16026A48DD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B4CAB-E637-4F8A-BF04-5EDBDC6993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47A9B-5478-469C-B5C7-7668DB1EAB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FA2DE-378F-4FBD-A2D6-63017CC3D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163F-CB94-47A6-A539-3468EB7CB7A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BBCAA-D859-4E0C-9807-7F055A3679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E5A42-2D53-42B9-931F-32E542171F4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C1851-351C-4C0A-9768-570CCBA8321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4883C-1503-4D36-99B1-82613698E5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88F07-B1A4-4A76-A92A-86C056E9EA4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F68BC-83C8-4AFC-A566-C3E2DB8E36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D8FE7-7305-4522-AD0C-2DCC0A40FAF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74009-D76F-477F-AE0E-74C8CB0EF0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86EDE-4E09-40F5-BE1E-4F282C7EBD7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512B9-F1CF-4431-B1AB-A514B3E2B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15A7-CA10-42D8-B2A6-A60BF294791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37BE7-637B-4B2D-AC2C-A083D3F1FD1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32E6-C5FA-43D2-9895-A9C4FD262D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2B25-E360-4ABA-B8F6-A33F86A3F1D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E467-04E0-4F6E-9ECA-EDFDFF761A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13C3-9FFD-4EC0-BC41-F6E627D33D0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8A6C-07A8-4B1B-A963-2C0A6127F19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4C52-3ED1-40EA-9632-495ECCC466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3AAE-1EED-44DD-A5F1-103D85B7C8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416A-8CA1-4503-A501-1FCF41CAB7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72F8-AC4F-4C9C-96BB-C51DE3670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BA04-21CF-414D-BFFF-AC43016F411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A96E-FAA3-4522-AA5B-C4923B2774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884C-4279-495D-8234-9F574607BEA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BCED-43D0-4A18-AAFB-EA2CADF956D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A47AA3-012B-4418-B49B-B8C615CBE2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B71DB-B5A8-4F10-BCDC-6060692B259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089014-60DD-4B27-9B17-604BDF71DA2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A09F77-1884-49B7-B5C9-52BDBD8C780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1B84D2-6B3E-4703-9518-2D75BD06E6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CFBD1-B018-4093-9458-7376D44A5C8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72348-4CF6-4D92-B527-CDB4648C8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5409-8757-4D56-B321-5A92BCA680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83B26-8908-48D0-BEDE-84849E6163C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2B7F7F-B83F-4DA6-A945-D9AEF72C6CE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14127-E0A8-4087-87C2-DD2EA68E5B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E6539-CDD1-49CE-B691-AA82BEC480D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256EC4-7789-4569-8DBA-0DBD820FE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D2E8-594D-4D21-9D59-1C1E37C62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251D-6690-4A9A-AB2A-584C04B83D30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DF39-E8F3-411A-A9FA-4E8183ECF4FF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F0C8-110A-4D63-BDEA-13AEDE8D712C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4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851E-BBD2-4A1D-9823-14324B6A7E9E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988E-AAD2-4CDA-80C2-FD6A1E25CC28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6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C9CC-E221-4383-B051-4A87DF19673D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5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0245-49A0-49B8-8899-BFF7809185A6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theworldcafe.com/" TargetMode="External"/><Relationship Id="rId4" Type="http://schemas.openxmlformats.org/officeDocument/2006/relationships/hyperlink" Target="http://www.theworldcafe.com/" TargetMode="External"/><Relationship Id="rId5" Type="http://schemas.openxmlformats.org/officeDocument/2006/relationships/hyperlink" Target="http://www.if.ufrj.br/" TargetMode="External"/><Relationship Id="rId6" Type="http://schemas.openxmlformats.org/officeDocument/2006/relationships/hyperlink" Target="http://www.if.ufrj.br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Arial Black"/>
                <a:ea typeface="Arial Black"/>
              </a:rPr>
              <a:t>METODOLOGIAS ATIV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Acacia Zeneida Kuenz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Dra. em Educação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b4a76"/>
                </a:solidFill>
                <a:uFillTx/>
                <a:latin typeface="Lucida Sans Unicode"/>
              </a:rPr>
              <a:t>acaciak4@gmail.com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  <a:ea typeface="Arial Bold"/>
              </a:rPr>
              <a:t>Concepção de competência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apacidade potencial para atuar em situações não previstas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m processos dinâmicos com base tecnologicamente sempre mais complex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a partir do conhecimento da totalidade do processo de trabalho, incluindo sua relação com os processos sociais e econômicos mais ampl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rês dimensões: técnica, cognitiva complexa, comportamental (fazer, trabalhar intelectualmente, desejar fazer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Arial"/>
              </a:rPr>
              <a:t>Que competências queremos desenvolv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específica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competências relativas ao saber fazer; técnic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cognitivas complexas</a:t>
            </a: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operações mentais utilizadas para estabelecer relações com e entre os objetos, situações, fenômenos e pessoas  que deseja conhecer; saber pensar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comportamentais –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mbinam  comportamento, a cultura e a identidade,vontade,engajamento e motivação; desenvolvem-se nos espaços de interação e de trocas; querer faz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  <a:ea typeface="Arial Bold"/>
              </a:rPr>
              <a:t>Concepção de Aprendizagem</a:t>
            </a:r>
            <a:r>
              <a:rPr b="0" lang="en-US" sz="2400" spc="-1" strike="noStrike">
                <a:solidFill>
                  <a:srgbClr val="227a8f"/>
                </a:solidFill>
                <a:latin typeface="Arial Bold"/>
                <a:ea typeface="Arial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aluno aprende quando se relaciona com o conhecimento; protagonism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resultado de processos intencionais e sistematizados de construção de conhecimen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ocorre espontaneamente; precisa da mediação do professo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Concepção de Métod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xtual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ticular teoria e prá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ticular parte e totalidad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disciplinar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v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r e reter a aprendizagem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Atende ao Projeto Pedagógico das EJ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As metodologias ativas têm por objetivo levar o aluno ao protagonism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São suficientes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</a:t>
            </a: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Como planejar uma aula usando metodologias ativa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(IN 01/2017 Enfa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ema: Fake new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Que problema da prática o curso pretende enfrenta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JUSTIFICA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ção  do problema da prática ou de desempenho existente ou que venha a existir, que justifica a oferta do curso; o texto deve ser objetivo, apontando o problema que se pretende resolver ou a prática que se pretende mudar com o cur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1060560" y="398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7000"/>
          </a:bodyPr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reparação 1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r características e necessidad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 público-alvo;     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Definir problema de realidade que se pretende enfrentar (justificativa)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4880" indent="-2214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 Italic"/>
                <a:ea typeface="Arial Bold Italic"/>
              </a:rPr>
              <a:t>os jovens têm dificuldades para discernir notícias falsas das verdadeiras, e por essa razão divulgam fake new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reparação 2</a:t>
            </a:r>
            <a:r>
              <a:rPr b="0" lang="en-US" sz="3200" spc="-1" strike="noStrike">
                <a:solidFill>
                  <a:srgbClr val="008000"/>
                </a:solidFill>
                <a:latin typeface="Arial Bold"/>
                <a:ea typeface="Arial 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efinir as competências que serão   desenvolvidas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identificar fake News, usando as informações disponívei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- apresentar argumentos que explicitem  as consequências das fake news, e de sua divulg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- descrever as ações que devem realizadas quando receber ou tomar conhecimento de fake new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Qual a metodologia mais adequa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ensino que serão utilizadas, priorizando métodos ativ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ão selecionadas a partir das competências que se pretende desenvolv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lic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is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igir decisõe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8000"/>
                </a:solidFill>
                <a:latin typeface="Arial Bold"/>
                <a:ea typeface="Arial Bold"/>
              </a:rPr>
              <a:t>Se eu sei como se conhece, sei como se ensina</a:t>
            </a:r>
            <a:r>
              <a:rPr b="0" lang="ja-JP" sz="3200" spc="-1" strike="noStrike">
                <a:solidFill>
                  <a:srgbClr val="008000"/>
                </a:solidFill>
                <a:latin typeface="Arial"/>
                <a:ea typeface="Arial Bol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-255600" algn="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old"/>
                <a:ea typeface="Arial Bold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 Bold"/>
                <a:ea typeface="Arial Bold"/>
              </a:rPr>
              <a:t>Libâne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 como se conhec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 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Problematiz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presentar situações práticas de trabalho, estimuladoras do trabalho intelectual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Apresentar a fundamentação teóric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d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ponibilizando material variado para consult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icando fontes: livros, si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2000"/>
          </a:bodyPr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Propor atividade que leve o aluno ao protagonism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ráticas que estimulem a criatividade na busca de soluções originais e diversificadas que permitam o exercício da capacidade de decidir a partir da identificação de consequências possíveis que envolvam as dimensões cognitiva, ética e polí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riação da solução tendo como ponto de partida e  ponto de chegada a ação jurisdicional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Sistematiz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ização e síntes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A escolha da estratég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mpetências quero desenvolv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m são meus alunos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nhecimentos prévios têm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a natureza do conteúd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tempo tenho disponíve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é o espaço físico/equipamentos disponíveis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experiência didática tenho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7a8f"/>
                </a:solidFill>
                <a:latin typeface="Arial Black"/>
                <a:ea typeface="Arial Black"/>
              </a:rPr>
              <a:t>Sugestõ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Desenvolvimen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Método: problematização usando metodologias ativ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1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Bold"/>
                <a:ea typeface="Arial Bold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. Etapa – partir de uma situação problema já vivida pelo aluno (fake new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philipps 6.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 identificar situações q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grupo já vive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 partir de sua realidade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que já é conhecido); relato; 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cochich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braimstorm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2000"/>
          </a:bodyPr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hilipps 6.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grupos de seis pessoas discutem o tema por 6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minutos; relatam as conclusõ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Cochich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dividir a turma em duplas, que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cochicham sobre o tema; relata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Braimstor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sugerir qualquer pensamento que vier à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mente sobre o tema; estimula a criatividade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em grup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9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539640" y="476280"/>
            <a:ext cx="8433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ＭＳ Ｐゴシック"/>
              </a:rPr>
              <a:t>Identificadas situações já vividas pelos aluno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conversa de rod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que razão as pessoas divulgam fake news? Quais as consequências dessa prática? (professor sistematiza no quadro); ou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gv-go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 participantes são divididos em dois grupos concêntricos; só o interno fala; o externo observa;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aquário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a cadeira do círculo interno fica vaga, podendo ser ocupada a qualquer momento por um participante do grupo externo que tenha uma contribuição a da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Arial Bold"/>
              <a:ea typeface="ヒラギノ角ゴ ProN W6"/>
            </a:endParaRPr>
          </a:p>
        </p:txBody>
      </p:sp>
      <p:pic>
        <p:nvPicPr>
          <p:cNvPr id="459" name="Picture 7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064360" cy="50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Arial Bold"/>
              <a:ea typeface="ヒラギノ角ゴ ProN W6"/>
            </a:endParaRPr>
          </a:p>
        </p:txBody>
      </p:sp>
      <p:pic>
        <p:nvPicPr>
          <p:cNvPr id="466" name="Picture 7" descr=""/>
          <p:cNvPicPr/>
          <p:nvPr/>
        </p:nvPicPr>
        <p:blipFill>
          <a:blip r:embed="rId3"/>
          <a:stretch/>
        </p:blipFill>
        <p:spPr>
          <a:xfrm>
            <a:off x="1546200" y="260280"/>
            <a:ext cx="64818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Arial Bold"/>
              <a:ea typeface="ヒラギノ角ゴ ProN W6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403200" y="485640"/>
            <a:ext cx="82422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555480" y="638280"/>
            <a:ext cx="824256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040" tIns="0" bIns="0" anchor="t">
            <a:noAutofit/>
          </a:bodyPr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Desenvolvimento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7a8f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ＭＳ Ｐゴシック"/>
              </a:rPr>
              <a:t>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Bold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ＭＳ Ｐゴシック"/>
              </a:rPr>
              <a:t>. Etapa – apresentação da teoria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o que são fake news e su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quências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orque é difícil enfrentá-las ( pós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dade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como identificá-las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como se comportar em face das fa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exposição dialogada pelo prof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dequação d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guagem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sala de aula invertid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  <a:ea typeface="ヒラギノ角ゴ ProN W6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1936800" y="1449360"/>
            <a:ext cx="52704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Sala de aula invertid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odologia na qual os alunos estudam os temas em casa, antecipadamente, e trazem as dúvidas para discutir em sala, com os colegas e professo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envolvi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old"/>
                <a:ea typeface="Arial Bold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. Etapa – protagonismo do aluno – (adequação dos texto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trabalho em grupo: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sca de exemplos ou vídeos de fake news na web, no processo político-eleitoral, e argumentar sobre sua intencionalidade  e prováveis consequências, com relato criativo em flipchart – mural; </a:t>
            </a: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rodução de víde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equências das fake new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word café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divide o grupo em 5 mesas, cada uma com  uma notícia e o grupo terá de descobrir é  falsa ou verdadeira, apresentando argumentos; os alunos rodam pelas cinco mesa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Café Diálogo 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  <a:ea typeface="Arial Italic"/>
              </a:rPr>
              <a:t>méto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fácil utilização para a criação de uma rede viva de diálogo colaborativo sobre perguntas relevantes a serviço de assuntos reais do dia- dia, sejam da vida ou do trabalho; permite a participação de públicos numeros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distribuem-se por mesas arrumadas como se fossem para um café, em número de 5 a 8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da espaço de tempo, os participantes mudam de mesa, permanecendo um único membro, o anfitrião, ou coordenador (20 minuto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cada mesa há uma pergunta ou tema de discussão diferente e instigante; a qualidade das perguntas é fundam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da rodada, o coordenador apresenta aos  novos participantes o que foi discutido pelo grupo anterior, que será o ponto de partida para a nova rodada; findo o tempo, os participantes trocam de mesa novamente, sempre buscando uma mesa por onde não tenha passado e se possível, novos parceiros (o grupo não se desloca como um todo; devem ser buscadas novas combinaçõe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rganizar papéis coloridos, lápis, canetinhas, flipchat, e estimular os participantes a rabiscar suas idéias; o coordenador sistematiza as idéias (notebook?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isponibilizar lanche, se possível nas mes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 comunicação dos resultados pode ser em grande grupo, ou feita pelos relator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 docente faz a síntese f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controvérsia estruturada</a:t>
            </a:r>
            <a:r>
              <a:rPr b="0" lang="en-US" sz="3200" spc="-1" strike="noStrike">
                <a:solidFill>
                  <a:srgbClr val="227a8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disponibiliza uma fake new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ativa à política, e um grupo a defen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 outro acusa, levantando argument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 os respectivos posicionamentos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; </a:t>
            </a: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estudo de caso</a:t>
            </a:r>
            <a:r>
              <a:rPr b="0" lang="en-US" sz="3200" spc="-1" strike="noStrike">
                <a:solidFill>
                  <a:srgbClr val="227a8f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apresenta um texto com u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ato de uma situação verídica 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ctícia com questões para o grup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ponder; debate ao final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Estudos de cas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atos de situações ocorridas no mundo real, apresentadas a estudantes com a finalidade de ensinar, preparando-os para a prátic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volvem uma decisão, um desafio, uma oportunidade, um problema ou uma questão que um profissional tem que resolver em uma organiz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Estudos de ca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Redação das notas de Ensino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Apresent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Objetiv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Questões para estudo: perguntas a responder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Referências básic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ainel Integrado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 primeira etapa cada grupo analisa se a notícia é falsa ou verdadeira, bem como a intencionalidade, as consequências e a conduta cabível; na segunda etapa os grupos são formados pelos números 1, 2 e sucessivamente, e cada aluno relata a conclusão do seu grupo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"/>
              <a:ea typeface="ヒラギノ角ゴ ProN W6"/>
            </a:endParaRPr>
          </a:p>
        </p:txBody>
      </p:sp>
      <p:pic>
        <p:nvPicPr>
          <p:cNvPr id="535" name="Picture 7" descr=""/>
          <p:cNvPicPr/>
          <p:nvPr/>
        </p:nvPicPr>
        <p:blipFill>
          <a:blip r:embed="rId3"/>
          <a:stretch/>
        </p:blipFill>
        <p:spPr>
          <a:xfrm>
            <a:off x="1168560" y="1054080"/>
            <a:ext cx="680688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77724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Re-criando a realidade no pensa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ó se conhece aquilo que é objeto de nossa atividad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intelectual e prátic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O ser humano só conhece aquilo que é objeto de sua atividade, e conhece porque atua praticamente</a:t>
            </a:r>
            <a:r>
              <a:rPr b="0" lang="en-US" sz="2800" spc="-1" strike="noStrike">
                <a:solidFill>
                  <a:srgbClr val="008000"/>
                </a:solidFill>
                <a:latin typeface="Arial Bold"/>
                <a:ea typeface="Arial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Mapas conceitua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pas conceituais são diagramas indicando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relações entre concei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ou entre palavras que usamos para representar conceit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 são diagramas de significados, de relações significativas; de hierarquias conceituais, se for o cas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o mapeamento conceitual é uma técnica muito flexível e pode ser usada em diversas situações, para diferentes finalidades: técnica didática, recurso de aprendizagem, meio de avali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ign think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Processo crítico para criar novas soluçõ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ersão: conhecer o problema – entrevistas, dad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álise e síntese:delineamento do problema a ser enfrenta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ação: criação de soluçõ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tipação: testag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envovimento: implementaçã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envolvi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4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old"/>
                <a:ea typeface="Arial Bold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. Etapa – síntese feita pelo profess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ontamento dos pontos relevante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tomada das dúvidas, problemas de interpretação, controvérsia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8000"/>
          </a:bodyPr>
          <a:p>
            <a:pPr marL="46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astasiou, Lea F. Processo de ensinagem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idade. Joinville, Univille, 2010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an, José. Metodologias ativas para u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rendizagem mais profunda 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www2.eca.usp.br/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mor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unes, Celso. Manual de dinâmicas de grupo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trópolis,  Vozes. 8a. ed, 19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 www.theworldcafe.com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ira, Marco A. Mapas conceituais e aprendizag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gnificativa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www.if.ufrj.b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so Gomes  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http://celso-gomes.blogspot.com/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27a8f"/>
                </a:solidFill>
                <a:latin typeface="Arial Bold"/>
                <a:ea typeface="Arial Bold"/>
              </a:rPr>
              <a:t>Desafios para o doc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  <a:ea typeface="Arial Bold"/>
              </a:rPr>
              <a:t>Motiv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aula sh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descer de tirolesa na sala de aula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Lucida Sans Unicode"/>
              </a:rPr>
              <a:t>O que move o aluno para o conheciment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 - para atingir finalidad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força pulsional propulsora do  conhecimento: desejo, afeto, sentimentos, emoçõ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Lucida Sans Unicode"/>
              </a:rPr>
              <a:t>É pela motivação que o aluno deixa de ser espectador para ser protagonis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Lucida Sans Unicode"/>
              </a:rPr>
              <a:t>Desafio do profess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4427640" y="4365720"/>
            <a:ext cx="485640" cy="54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020"/>
                </a:moveTo>
                <a:lnTo>
                  <a:pt x="5400" y="12020"/>
                </a:lnTo>
                <a:lnTo>
                  <a:pt x="5400" y="0"/>
                </a:lnTo>
                <a:lnTo>
                  <a:pt x="16200" y="0"/>
                </a:lnTo>
                <a:lnTo>
                  <a:pt x="16200" y="12020"/>
                </a:lnTo>
                <a:lnTo>
                  <a:pt x="21600" y="12020"/>
                </a:lnTo>
                <a:lnTo>
                  <a:pt x="10800" y="21600"/>
                </a:lnTo>
                <a:lnTo>
                  <a:pt x="0" y="12020"/>
                </a:lnTo>
                <a:close/>
                <a:moveTo>
                  <a:pt x="0" y="12020"/>
                </a:moveTo>
              </a:path>
            </a:pathLst>
          </a:custGeom>
          <a:gradFill rotWithShape="0">
            <a:gsLst>
              <a:gs pos="0">
                <a:srgbClr val="90e9ff"/>
              </a:gs>
              <a:gs pos="100000">
                <a:srgbClr val="17afd5"/>
              </a:gs>
            </a:gsLst>
            <a:lin ang="5400000"/>
          </a:gradFill>
          <a:ln w="9360">
            <a:solidFill>
              <a:srgbClr val="28a0be"/>
            </a:solidFill>
            <a:miter/>
          </a:ln>
          <a:effectLst>
            <a:outerShdw dist="255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afios para o doc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  <a:ea typeface="Arial Bold"/>
              </a:rPr>
              <a:t>Tirar o aluno da contemplação: levá-lo ao protagonis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não é ativismo, fazer por fazer (grupos sem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ntido, filmes sem discussão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criar situações significativas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tivadoras, para que o aluno, ao se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lacionar com o conhecimento, faça novas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ínteses, descubra, crie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Lucida Sans Unicode"/>
              </a:rPr>
              <a:t>Como identificar o que motiva os alunos 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indo de sua realidade – imersão, entrevistas,   leituras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ndo  seus desejos e seus conhecimentos prévios; partindo de sua linguagem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               </a:t>
            </a:r>
            <a:r>
              <a:rPr b="0" lang="en-US" sz="2700" spc="-1" strike="noStrike">
                <a:solidFill>
                  <a:srgbClr val="227a8f"/>
                </a:solidFill>
                <a:latin typeface="ヒラギノ角ゴ ProN W6"/>
                <a:ea typeface="ヒラギノ角ゴ ProN W6"/>
              </a:rPr>
              <a:t>Metodologias ativ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acia</dc:creator>
  <dc:description/>
  <cp:keywords/>
  <dc:language>en-US</dc:language>
  <cp:lastModifiedBy>Acacia Zeneida Kuenzer</cp:lastModifiedBy>
  <dcterms:modified xsi:type="dcterms:W3CDTF">2019-09-06T02:46:12Z</dcterms:modified>
  <cp:revision>1</cp:revision>
  <dc:subject/>
  <dc:title>EDUCAÇÃO PROFISSIONAL, DESENVOLVIMENTO E INCLUSÃO SOCIAL</dc:title>
</cp:coreProperties>
</file>